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3FA0-24B1-4762-B9AB-6D88625B1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C3EC-439C-4236-BACE-64F44B45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779A-514C-4F19-8A04-9E372716E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B793-ADE9-4E8E-B15C-09DF80BEE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8BFA-D4B5-44B0-A763-30730C3B1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7AD1-0802-4FC0-8DA5-1B97DAA7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57C0-6CD2-4D01-A254-CE4C5780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D51E-8864-4730-9D6D-D0B09165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B781-C595-41CC-AD0C-275BF2FC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0DE4-2076-4DC6-8F32-F3B88D75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D5E8-4D6E-49A0-95F0-179AEA94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4F24-FCF1-4E73-ABC6-E8E15F94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8167-4BF0-4741-8C5D-8FC4F96A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CB12-EEFC-4981-BBBB-EF854E54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2F73-CD44-44D2-B6A5-766EB9E7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DD24-6909-440E-8BEF-6B0AC9A6C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B9E6-6A75-48E1-8361-0CFEFD7E7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9C243-AEDE-4525-96D1-7D45D3D5C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2B69B-1144-4057-A140-C6D350E1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3C5C6-A609-4CDD-8CD0-1A4C3889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7D961-8443-4587-A28F-587FA28D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B0B06-C4CB-430B-A5E4-9A5AE845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90C0-B4EF-41B6-95F6-04D27B46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1801E-9901-49EC-9901-80B0475B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A2E1D-3CCC-409C-A48C-6FE3689D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DE743-D1AF-4137-AA8B-321A7ADF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54FA7-0DF5-44B7-8622-6591A5E7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4D2F2-D376-4CCA-899F-9DC5D195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92EEE-EFC8-4C00-AC1E-B6109FA5F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C9885-E22C-4465-803D-B8408A2B3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7C2F5-9891-4CD6-B32F-86CFF836C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4258D-055E-498B-8641-7D203EE5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62058-1508-4CB1-AFFA-31DF98C7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0725-BB2A-4B38-9CAB-3804BEB0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C7D31-AAFA-4089-816E-DB02638C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F7471-EC91-42C1-842B-FF013D4D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350E0-21F3-4AE2-8744-22AEE72E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8FD15-3556-4A60-8658-16144427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548D2-780D-4074-9D0B-54432140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8FFF4-0D62-498A-BBC9-577D61F3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ED03E-BEBA-4572-A368-78CE6396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C55B3-B477-441E-820A-B327E4783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862B8-88A5-48A6-96AB-4A91B2583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805A-66FA-4F55-8458-0120906A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867C-8605-45EC-AC50-812DD87C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CB33-9BC5-46DA-A013-3677FB78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2F25-D161-49BE-BF66-FC748BDF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ADCA-EF20-4CE6-BEF8-A51F58DC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3010-5A36-4848-915F-EA4E8A68216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2EE6-447B-4FE0-AF95-2208C1764A8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C849-BB8C-450C-AE16-CC0FD687B17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C8A4-A688-4117-AE4B-3F9D4942F3A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835200"/>
            <a:ext cx="7864200" cy="1901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819520"/>
            <a:ext cx="78548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Week 3 Lab1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Review on Spreadsheets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ina A. Sai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asaid@ucalgary.ca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ivot Tab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Pivot table for the data so th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and automotive sales will be row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e Max of Aug-08 for each Type and automotive sa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6D16-3E8B-4D00-B442-21BC94453EF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8907-03A4-49CE-80E5-5A7D975C84C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685800" y="609480"/>
          <a:ext cx="6705720" cy="5567400"/>
        </p:xfrm>
        <a:graphic>
          <a:graphicData uri="http://schemas.openxmlformats.org/drawingml/2006/table">
            <a:tbl>
              <a:tblPr/>
              <a:tblGrid>
                <a:gridCol w="2276640"/>
                <a:gridCol w="3274920"/>
                <a:gridCol w="1154160"/>
              </a:tblGrid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x of Aug-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motive S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ck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1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U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21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UV/Cross-o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21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br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ss-o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9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ght-duty Truc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08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d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3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72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brid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08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v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Cross-o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2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van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2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uck/SU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86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ge SU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8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xu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4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xury SU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dsize SU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6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v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4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uck/SUV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86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86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otes for Pivot Tab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ure which variables are required to be in rows and which are required to be in colum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 check the function required; e.g. max and m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ain ask yourself if the answer is correc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CC98-6B8C-4698-ADA9-66B39E05580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alysi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re the market share percentages for the top twenty vehicle sales in August 2008? Use a chart to display this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AC2D-3BD7-4744-B601-EAC5BCA34C6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otes for Quiz 1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e at least 5 minutes ear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 your photo I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write your name and sign the handout shee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return back the handout at the end of the exa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Internet Browsing, chatting, or Cell Ph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 will be through blackboar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0BD3-D571-4FCF-8F43-F2EE55C9094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har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wnload excel sheet from my webpa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ot hybrid vehicle sales from January 2004 to May 2007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the boarder color to red and its width to 1.25 p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e the legend and gridlines from the char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major vertical gridlines to the char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the color of the vertical and horizontal axis to r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0E4A-6940-46AA-B0DF-1C4FCD5180E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AA76-9CBD-4D73-9E39-09F9B94F797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2245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ookup tab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additional column “ rank” that comes from a lookup table to achieve the follow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Hybrid sales is greater than or equal 30000, rank = 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Hybrid sales is greater than or equal 20000, rank = 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Hybrid sales is greater than or equal 10000, rank = 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Hybrid sales is greater than or equal 50000, rank = 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wise, rank=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4FEC-65A8-4453-B3C7-EEAF673E54B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sw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4101-6D8E-4A61-97C7-9C7E0166708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801960" y="1397160"/>
          <a:ext cx="1540080" cy="4897440"/>
        </p:xfrm>
        <a:graphic>
          <a:graphicData uri="http://schemas.openxmlformats.org/drawingml/2006/table">
            <a:tbl>
              <a:tblPr/>
              <a:tblGrid>
                <a:gridCol w="947880"/>
                <a:gridCol w="59220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brid S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otes for Lookup tab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in lookup tables must be in an ascending  ord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use absolute reference to fill out the fun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use $A$1:$A$5 Instead of A1:A5 for values that you don’t want its location to change in fill ou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use a value of 0 for rank E, so that any value from 0 to 500 will be 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, ask your self if the answer is correct or not for randomly selected val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844A-A793-471E-A035-842F2F40FD6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f-State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another column rank2 to calculate the same function in slide 5 using If stat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(logical expression, true value, false valu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IF(A2&gt;200,”A”,IF(A2&gt;400,”B”)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EB4F-E13D-4881-9C75-57937F5C3EA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otes for If-State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forget quotes for string, e.g. “A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your brackets balanc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forget commas or don’t add additional comm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, ask yourself if the answer is correct or not for randomly selected val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forget &gt;= if requir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CB0A-21D3-4CD1-903C-CE99795C559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5:23:28Z</dcterms:created>
  <dc:creator>Dina</dc:creator>
  <dc:description/>
  <dc:language>en-US</dc:language>
  <cp:lastModifiedBy>Dina</cp:lastModifiedBy>
  <dcterms:modified xsi:type="dcterms:W3CDTF">2009-02-02T13:25:54Z</dcterms:modified>
  <cp:revision>121</cp:revision>
  <dc:subject/>
  <dc:title>CPSC 203</dc:title>
</cp:coreProperties>
</file>